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carbrake.wav" ContentType="audio/x-wav"/>
  <Override PartName="/ppt/media/image14.jpeg" ContentType="image/jpeg"/>
  <Override PartName="/ppt/media/image7.gif" ContentType="image/gif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3.jpeg" ContentType="image/jpeg"/>
  <Override PartName="/ppt/media/image15.png" ContentType="image/png"/>
  <Override PartName="/ppt/media/image24.wmf" ContentType="image/x-wmf"/>
  <Override PartName="/ppt/media/image13.png" ContentType="image/png"/>
  <Override PartName="/ppt/media/image23.wmf" ContentType="image/x-wmf"/>
  <Override PartName="/ppt/media/image22.wmf" ContentType="image/x-wmf"/>
  <Override PartName="/ppt/media/image20.png" ContentType="image/png"/>
  <Override PartName="/ppt/media/image18.jpeg" ContentType="image/jpeg"/>
  <Override PartName="/ppt/media/image21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4494-BB18-45E8-AB84-8C6C921C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ED0-E38C-468D-A94F-8A08DD32C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27D7-382A-4301-B69F-9932F41B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E55-0838-4B9F-9A23-DE9BA9F5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3D4C-48C3-477E-BF1F-708636D9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FB5-B560-4049-9E33-CFDF8482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6CB0-FA77-4CD7-90CD-BF872A61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E5D-AE69-4220-8AA7-D82C8576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B0A2-6146-4081-9923-EB459600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D6B-B461-4925-9E9F-5CA89E9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C68-4222-4CA5-92D0-07B5DDBC4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063B-139A-4286-9B48-E7ED828A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9ADB-DABE-4F03-87F3-BAFA51CDD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mage result for nutrition"/>
          <p:cNvPicPr/>
          <p:nvPr/>
        </p:nvPicPr>
        <p:blipFill>
          <a:blip r:embed="rId1"/>
          <a:stretch/>
        </p:blipFill>
        <p:spPr>
          <a:xfrm>
            <a:off x="685800" y="91440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"/>
          <p:cNvSpPr/>
          <p:nvPr/>
        </p:nvSpPr>
        <p:spPr>
          <a:xfrm>
            <a:off x="380880" y="457200"/>
            <a:ext cx="63248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Finch Stick"/>
              </a:rPr>
              <a:t>One of the most important things you can do for your body and mind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Finch Stick"/>
              </a:rPr>
              <a:t>1. Be physically active each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Image result for physically active"/>
          <p:cNvPicPr/>
          <p:nvPr/>
        </p:nvPicPr>
        <p:blipFill>
          <a:blip r:embed="rId1"/>
          <a:stretch/>
        </p:blipFill>
        <p:spPr>
          <a:xfrm>
            <a:off x="5661000" y="2365200"/>
            <a:ext cx="3371760" cy="1798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Image result for physically active"/>
          <p:cNvPicPr/>
          <p:nvPr/>
        </p:nvPicPr>
        <p:blipFill>
          <a:blip r:embed="rId2"/>
          <a:stretch/>
        </p:blipFill>
        <p:spPr>
          <a:xfrm>
            <a:off x="2857680" y="22464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Image result for physically active"/>
          <p:cNvPicPr/>
          <p:nvPr/>
        </p:nvPicPr>
        <p:blipFill>
          <a:blip r:embed="rId3"/>
          <a:stretch/>
        </p:blipFill>
        <p:spPr>
          <a:xfrm>
            <a:off x="5791320" y="4680000"/>
            <a:ext cx="2847960" cy="160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Image result for physically active"/>
          <p:cNvPicPr/>
          <p:nvPr/>
        </p:nvPicPr>
        <p:blipFill>
          <a:blip r:embed="rId4"/>
          <a:stretch/>
        </p:blipFill>
        <p:spPr>
          <a:xfrm>
            <a:off x="6489720" y="24768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Image result for physically active"/>
          <p:cNvPicPr/>
          <p:nvPr/>
        </p:nvPicPr>
        <p:blipFill>
          <a:blip r:embed="rId5"/>
          <a:stretch/>
        </p:blipFill>
        <p:spPr>
          <a:xfrm>
            <a:off x="3095640" y="4232160"/>
            <a:ext cx="2228760" cy="205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Image result for walking the dog"/>
          <p:cNvPicPr/>
          <p:nvPr/>
        </p:nvPicPr>
        <p:blipFill>
          <a:blip r:embed="rId6"/>
          <a:stretch/>
        </p:blipFill>
        <p:spPr>
          <a:xfrm>
            <a:off x="380880" y="2482920"/>
            <a:ext cx="2502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airy"/>
          <p:cNvPicPr/>
          <p:nvPr/>
        </p:nvPicPr>
        <p:blipFill>
          <a:blip r:embed="rId1"/>
          <a:stretch/>
        </p:blipFill>
        <p:spPr>
          <a:xfrm>
            <a:off x="6669000" y="1224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FD00997_"/>
          <p:cNvPicPr/>
          <p:nvPr/>
        </p:nvPicPr>
        <p:blipFill>
          <a:blip r:embed="rId2"/>
          <a:stretch/>
        </p:blipFill>
        <p:spPr>
          <a:xfrm>
            <a:off x="6669000" y="1370160"/>
            <a:ext cx="2514600" cy="346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FD01038_"/>
          <p:cNvPicPr/>
          <p:nvPr/>
        </p:nvPicPr>
        <p:blipFill>
          <a:blip r:embed="rId3"/>
          <a:stretch/>
        </p:blipFill>
        <p:spPr>
          <a:xfrm>
            <a:off x="5713560" y="3081240"/>
            <a:ext cx="3809880" cy="1731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274680" y="228600"/>
            <a:ext cx="5943600" cy="63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me a healthy eating pattern that accounts for all foods and beverages within an appropriate calorie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ety of vegetables from all of the subgroups—dark green, red and orange, legumes (beans and peas), starchy, and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uits, especially whole fr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ins, at least half of which are whole gr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t-free or low-fat dairy, including milk, yogurt, cheese, and/or fortified soy bever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ety of protein foods, including seafood, lean meats and poultry, eggs, legumes (beans and peas), and nuts, seeds, and soy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ils (olive is the be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healthy eating pattern limits: Sugars, Sodium and Trans f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1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j0130493"/>
          <p:cNvPicPr/>
          <p:nvPr/>
        </p:nvPicPr>
        <p:blipFill>
          <a:blip r:embed="rId4"/>
          <a:stretch/>
        </p:blipFill>
        <p:spPr>
          <a:xfrm>
            <a:off x="3303720" y="5300640"/>
            <a:ext cx="8874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FD01976_"/>
          <p:cNvPicPr/>
          <p:nvPr/>
        </p:nvPicPr>
        <p:blipFill>
          <a:blip r:embed="rId5"/>
          <a:stretch/>
        </p:blipFill>
        <p:spPr>
          <a:xfrm>
            <a:off x="5254560" y="4943520"/>
            <a:ext cx="963720" cy="990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j0251523"/>
          <p:cNvPicPr/>
          <p:nvPr/>
        </p:nvPicPr>
        <p:blipFill>
          <a:blip r:embed="rId6"/>
          <a:stretch/>
        </p:blipFill>
        <p:spPr>
          <a:xfrm>
            <a:off x="496800" y="5748480"/>
            <a:ext cx="789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DJ Finch Stick"/>
              </a:rPr>
              <a:t>What Is Nutrition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5800" y="2514600"/>
            <a:ext cx="33526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Finch Stick"/>
              </a:rPr>
              <a:t>-The study of how your body uses the food that you ea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6" descr="Image result for nutrition"/>
          <p:cNvPicPr/>
          <p:nvPr/>
        </p:nvPicPr>
        <p:blipFill>
          <a:blip r:embed="rId1"/>
          <a:stretch/>
        </p:blipFill>
        <p:spPr>
          <a:xfrm>
            <a:off x="4267080" y="1827360"/>
            <a:ext cx="45720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0"/>
          <p:cNvSpPr/>
          <p:nvPr/>
        </p:nvSpPr>
        <p:spPr>
          <a:xfrm>
            <a:off x="1828800" y="439560"/>
            <a:ext cx="565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DJ Classic"/>
              </a:rPr>
              <a:t>What is a </a:t>
            </a:r>
            <a:r>
              <a:rPr b="1" lang="en-US" sz="4800" spc="-1" strike="noStrike">
                <a:solidFill>
                  <a:srgbClr val="000000"/>
                </a:solidFill>
                <a:latin typeface="DJ Finch Stick"/>
              </a:rPr>
              <a:t>Nutrie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533520" y="1281240"/>
            <a:ext cx="6437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A nutrient is a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chemical substance 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in food that helps maintain the body. Some provide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energy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.  All help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build cells 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and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tissues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, regulate bodily processes such as </a:t>
            </a:r>
            <a:r>
              <a:rPr b="1" lang="en-US" sz="3600" spc="-1" strike="noStrike">
                <a:solidFill>
                  <a:srgbClr val="000000"/>
                </a:solidFill>
                <a:latin typeface="DJ Finch Stick"/>
              </a:rPr>
              <a:t>breathing</a:t>
            </a:r>
            <a:r>
              <a:rPr b="0" lang="en-US" sz="3600" spc="-1" strike="noStrike">
                <a:solidFill>
                  <a:srgbClr val="000000"/>
                </a:solidFill>
                <a:latin typeface="DJ Finch Stick"/>
              </a:rPr>
              <a:t>.  No single food supplies all the nutrients the body needs to fun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Image result for nutrient molecules"/>
          <p:cNvPicPr/>
          <p:nvPr/>
        </p:nvPicPr>
        <p:blipFill>
          <a:blip r:embed="rId1"/>
          <a:stretch/>
        </p:blipFill>
        <p:spPr>
          <a:xfrm>
            <a:off x="5029200" y="4343400"/>
            <a:ext cx="326088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62120" y="609480"/>
            <a:ext cx="7905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DJ Finch Stick"/>
              </a:rPr>
              <a:t>The six Classifications of Nutrients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DJ Finch Stick"/>
              <a:ea typeface="DJ Finch Stick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43520" y="2344680"/>
            <a:ext cx="4305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Vitam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Prote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Carbohydrates</a:t>
            </a:r>
            <a:r>
              <a:rPr b="0" lang="en-US" sz="4000" spc="-1" strike="noStrike">
                <a:solidFill>
                  <a:srgbClr val="ffffff"/>
                </a:solidFill>
                <a:latin typeface="DJ Class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 flipV="1">
            <a:off x="4648320" y="4495680"/>
            <a:ext cx="9144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648320" y="51814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72000" y="5410080"/>
            <a:ext cx="99072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5638680" y="4114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DJ Finch Stick"/>
              </a:rPr>
              <a:t>Sug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3"/>
          <p:cNvSpPr/>
          <p:nvPr/>
        </p:nvSpPr>
        <p:spPr>
          <a:xfrm>
            <a:off x="5791320" y="4800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DJ Finch Stick"/>
              </a:rPr>
              <a:t>Star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5715000" y="5562720"/>
            <a:ext cx="213372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DJ Finch Stick"/>
              </a:rPr>
              <a:t>Cellulose </a:t>
            </a:r>
            <a:r>
              <a:rPr b="0" lang="en-US" sz="1200" spc="-1" strike="noStrike">
                <a:solidFill>
                  <a:srgbClr val="ffffff"/>
                </a:solidFill>
                <a:latin typeface="DJ Finch Stick"/>
              </a:rPr>
              <a:t>(fiber ,undigestable, impora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838080" y="54864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DJ Finch Stick"/>
              </a:rPr>
              <a:t>F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 flipV="1" rot="10800000">
            <a:off x="533520" y="513720"/>
            <a:ext cx="7696080" cy="43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DJ Finch Stick"/>
              </a:rPr>
              <a:t>Nutrients that have Calori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Prote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Carbohydra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DJ Finch Stick"/>
              </a:rPr>
              <a:t>F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5" descr="Image result for nutrients"/>
          <p:cNvPicPr/>
          <p:nvPr/>
        </p:nvPicPr>
        <p:blipFill>
          <a:blip r:embed="rId1"/>
          <a:stretch/>
        </p:blipFill>
        <p:spPr>
          <a:xfrm>
            <a:off x="4267080" y="1143000"/>
            <a:ext cx="44960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alori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age result for calorie"/>
          <p:cNvPicPr/>
          <p:nvPr/>
        </p:nvPicPr>
        <p:blipFill>
          <a:blip r:embed="rId1"/>
          <a:stretch/>
        </p:blipFill>
        <p:spPr>
          <a:xfrm>
            <a:off x="76320" y="395280"/>
            <a:ext cx="5486400" cy="5938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age result for pants too tight"/>
          <p:cNvPicPr/>
          <p:nvPr/>
        </p:nvPicPr>
        <p:blipFill>
          <a:blip r:embed="rId2"/>
          <a:stretch/>
        </p:blipFill>
        <p:spPr>
          <a:xfrm>
            <a:off x="5867280" y="395280"/>
            <a:ext cx="2816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685800" y="9144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DJ Finch Stick"/>
              </a:rPr>
              <a:t>Definition of a Calori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762120" y="1793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DJ Finch Sti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DJ Finch Stick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DJ Finch Stick"/>
              </a:rPr>
              <a:t>A unit of measure for energy in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Image result for unit of measurement"/>
          <p:cNvPicPr/>
          <p:nvPr/>
        </p:nvPicPr>
        <p:blipFill>
          <a:blip r:embed="rId1"/>
          <a:stretch/>
        </p:blipFill>
        <p:spPr>
          <a:xfrm>
            <a:off x="990720" y="2728800"/>
            <a:ext cx="716256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80880" y="533520"/>
            <a:ext cx="838224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DJ Finch Stick"/>
              </a:rPr>
              <a:t>Variables which affect nutrient nee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1. 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2. Gen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3. Activity Lev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4. Clim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5. Heal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J Finch Stick"/>
              </a:rPr>
              <a:t>6. State of nutr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5" descr="oldman"/>
          <p:cNvPicPr/>
          <p:nvPr/>
        </p:nvPicPr>
        <p:blipFill>
          <a:blip r:embed="rId1"/>
          <a:stretch/>
        </p:blipFill>
        <p:spPr>
          <a:xfrm>
            <a:off x="2590920" y="14479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family"/>
          <p:cNvPicPr/>
          <p:nvPr/>
        </p:nvPicPr>
        <p:blipFill>
          <a:blip r:embed="rId2"/>
          <a:stretch/>
        </p:blipFill>
        <p:spPr>
          <a:xfrm>
            <a:off x="3581280" y="19810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exercise2"/>
          <p:cNvPicPr/>
          <p:nvPr/>
        </p:nvPicPr>
        <p:blipFill>
          <a:blip r:embed="rId3"/>
          <a:stretch/>
        </p:blipFill>
        <p:spPr>
          <a:xfrm>
            <a:off x="4648320" y="2590920"/>
            <a:ext cx="1463400" cy="146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loud"/>
          <p:cNvPicPr/>
          <p:nvPr/>
        </p:nvPicPr>
        <p:blipFill>
          <a:blip r:embed="rId4"/>
          <a:stretch/>
        </p:blipFill>
        <p:spPr>
          <a:xfrm>
            <a:off x="5562720" y="3124080"/>
            <a:ext cx="1463400" cy="1463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sun"/>
          <p:cNvPicPr/>
          <p:nvPr/>
        </p:nvPicPr>
        <p:blipFill>
          <a:blip r:embed="rId5"/>
          <a:stretch/>
        </p:blipFill>
        <p:spPr>
          <a:xfrm>
            <a:off x="6553080" y="4038480"/>
            <a:ext cx="1463760" cy="14637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sickperson"/>
          <p:cNvPicPr/>
          <p:nvPr/>
        </p:nvPicPr>
        <p:blipFill>
          <a:blip r:embed="rId6"/>
          <a:stretch/>
        </p:blipFill>
        <p:spPr>
          <a:xfrm>
            <a:off x="7391520" y="5029200"/>
            <a:ext cx="14634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19:35:41Z</dcterms:created>
  <dc:creator>inst</dc:creator>
  <dc:description/>
  <dc:language>en-US</dc:language>
  <cp:lastModifiedBy>Daly Dominguez</cp:lastModifiedBy>
  <dcterms:modified xsi:type="dcterms:W3CDTF">2016-09-29T00:46:20Z</dcterms:modified>
  <cp:revision>17</cp:revision>
  <dc:subject/>
  <dc:title>PowerPoint Presentation</dc:title>
</cp:coreProperties>
</file>